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928554"/>
        <c:axId val="66405350"/>
      </c:barChart>
      <c:catAx>
        <c:axId val="649285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405350"/>
        <c:crosses val="autoZero"/>
        <c:auto val="1"/>
        <c:lblAlgn val="ctr"/>
        <c:lblOffset val="100"/>
        <c:noMultiLvlLbl val="0"/>
      </c:catAx>
      <c:valAx>
        <c:axId val="664053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9285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323E-2A2D-484C-AEB9-D9BF924D8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6521-421B-4DD5-8EC7-21CC10388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7E4B-150D-4F3D-88F4-487D7B5FC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0ACA-AD70-4F01-AA4F-75D223C3C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82AD-3EB6-4723-BAEB-7F5008810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FEA4-DEE8-48A3-91C7-C9F19B915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5EB1-C84C-4131-94D7-87818CE93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1471-5459-4B64-AF8C-8A2C3DC3E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0B6A-2353-40D8-B9E0-586168A80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3D79-F10C-4B78-A5CC-6FEBC8BE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ED3D-ECCC-4086-BFF5-789C83161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E8CB-4C28-4D4A-A22C-70F65D7F6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DFECC2-E02F-4092-AD6D-EC3BC6E9F7F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