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57673"/>
        <c:axId val="69049930"/>
      </c:barChart>
      <c:catAx>
        <c:axId val="36857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49930"/>
        <c:crosses val="autoZero"/>
        <c:auto val="1"/>
        <c:lblAlgn val="ctr"/>
        <c:lblOffset val="100"/>
        <c:noMultiLvlLbl val="0"/>
      </c:catAx>
      <c:valAx>
        <c:axId val="69049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57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6D2-C284-446C-84BD-DD24EAAD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B88-F19F-4883-BFBA-CAA5A3E6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36F-4F3D-4485-B332-012795C1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783-B973-4F43-B04B-29274E94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D13-327F-4C24-925D-1B6BF97B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887-70A5-4A25-9EF0-D8F922FF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908-50AB-474A-B756-1A9851FA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D61-1E13-4EEE-BC3A-6D9AFAC5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19D-64BD-4BEA-B584-0DC561B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66C-98B2-4806-8474-C39C2688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F5E-D4AF-49F8-91A1-4738526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E2A-F22C-4A75-B4E5-ED090E3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E76EF-DFB7-45E6-B5BC-4A5D502CAB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